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AA6-AECD-420E-87DB-8F7DA5E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4A1-D4B3-4A23-A2DF-E44AEB5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C56-B1A2-4BFC-97C9-126F8419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38C-3353-4B80-95F9-0779B241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7112-BC3E-4B3B-B8A3-42847D33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3685-B9AD-4805-9565-E13D477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60AC-CB54-4F5F-A9E7-469FD3D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A1E-FACF-48C8-A64A-6EA7D44D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5F4E-2065-48DF-8629-77B826C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4A8-9809-4249-B577-FD1B5E3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97C-2E8B-4F35-86DD-40903E5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A7D-4C4B-496C-BCCA-21CB743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547D-CA57-4B57-B8D2-2A53E06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9883-FE44-4953-88C2-D8221DC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C6C-15D4-40E9-9EAB-85C7E684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6A5-6818-4FCB-A8CB-3E8267A7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6BA-D7D6-48C7-BBEA-EE507512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FEA-395A-4420-9197-127A06A0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3E9-6C84-4DEA-9ACF-1FC7F13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778-3EC3-403D-8EE8-82A2A5D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2FD-23BC-46B6-A441-3F08E36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4BF-4FCC-4BC0-AD05-3597A96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11B-BE35-47F6-99EF-24B1399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ADD-E27F-4CDD-9196-39AFAE20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17B-6DE8-4AF0-A1DF-6D539F54F3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9EA-A778-46DA-9A9C-FB2C21B2C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onfessions of a Recovering Google-phob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sentation for Feast at the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App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irie Lakes 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oogle Searching…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earching = too many h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ly sorted hits = risky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hits = difficulty determining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Google Tool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520" y="1241280"/>
            <a:ext cx="8748720" cy="524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57880" y="1278000"/>
            <a:ext cx="88560" cy="212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55800" y="2043000"/>
            <a:ext cx="5763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3120" y="992160"/>
            <a:ext cx="8639280" cy="518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9880" y="3657600"/>
            <a:ext cx="1603440" cy="31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960" y="5060880"/>
            <a:ext cx="1766880" cy="42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7560" y="3606840"/>
            <a:ext cx="1603080" cy="37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08320"/>
            <a:ext cx="157788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8840" y="938160"/>
            <a:ext cx="8223120" cy="4934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04160" y="1728720"/>
            <a:ext cx="6508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7120" y="855720"/>
            <a:ext cx="8516880" cy="5110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65400" y="4471920"/>
            <a:ext cx="2317680" cy="27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10:30Z</dcterms:created>
  <dc:creator>Karen Appleton</dc:creator>
  <dc:description/>
  <dc:language>en-US</dc:language>
  <cp:lastModifiedBy>Karen Appleton</cp:lastModifiedBy>
  <dcterms:modified xsi:type="dcterms:W3CDTF">2009-02-04T04:14:29Z</dcterms:modified>
  <cp:revision>4</cp:revision>
  <dc:subject/>
  <dc:title>Confessions of a Recovering Google-phob</dc:title>
</cp:coreProperties>
</file>